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00C-EE6C-4B3E-81EF-99DB9093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242-8467-46CD-9A9B-727F93D3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A121-4738-4D4A-80ED-93C2F2BC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A24-47E6-49E7-95A4-71BEAD08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D3AC-8FF2-44BF-8A7F-E2B34FCA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47C4-442E-4450-8796-5B6C41CB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E183-1D72-4C6C-BDDC-05A27A8C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9909-B15D-41BF-96A7-F6649CA9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DF2F-3680-4CB8-9361-E96B9F46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DC03-9E9E-4DAA-A3FC-075792EE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ADE5-D3AC-4D9C-810A-A2DFD7F1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111A-E1B8-46BF-A3CF-C21B3AA0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1E80-9378-454C-92AC-D08E7AE7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D19B-152F-42C2-92D4-04C909E1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A89B-2B6A-4842-BF04-E6D08785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FDF6-517B-43FC-8DD6-F677087D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9D34-CF65-4CB4-91C7-03EB9869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C5F-687A-4BBD-962F-EEA56C3C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701-C4C1-4C8E-A3A1-C3068081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4FA-A320-4593-A3A3-64023CAC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E24E-13A4-4A39-9A81-1ADD438C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331-15CF-4D84-A30D-49E227E1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4D9-A842-4099-9622-E4801BE2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F11-2F7B-4237-BDAB-06D3FA7E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AD51-3AE8-46BF-B22C-72D7A3A88E6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2CD4-8DF8-46E7-829B-21DC644F849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Progressive Er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00-19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 Time of Chang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ealth Improve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 of Prevention/sani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laria, hookw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eanness, pure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improvements (small pox shots), medical license requir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3, </a:t>
            </a:r>
            <a:r>
              <a:rPr b="0" i="1" lang="en-US" sz="2800" spc="-1" strike="noStrike">
                <a:solidFill>
                  <a:srgbClr val="66ccff"/>
                </a:solidFill>
                <a:latin typeface="Tahoma"/>
              </a:rPr>
              <a:t>State Board of Heal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4, </a:t>
            </a:r>
            <a:r>
              <a:rPr b="0" i="1" lang="en-US" sz="2800" spc="-1" strike="noStrike">
                <a:solidFill>
                  <a:srgbClr val="66ccff"/>
                </a:solidFill>
                <a:latin typeface="Tahoma"/>
              </a:rPr>
              <a:t>Bureau of Vital Statistic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pe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 often created medical organiz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E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Beginning of the Centu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ntier life f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tions/cities/businesses begin grow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tter industries and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rmers and common people have hard time adju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ahoma"/>
              </a:rPr>
              <a:t>Progressive Move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created to adjust society to modern needs and begin ref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Progressive Spiri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ilosophy/Belief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posed waste/corruption—conserv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posed big busin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tter education and health ca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cial justice and public safe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men’s suffr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ed econom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er’s r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hib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566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Rise of </a:t>
            </a:r>
            <a:r>
              <a:rPr b="1" i="1" lang="en-US" sz="4400" spc="-1" strike="noStrike">
                <a:solidFill>
                  <a:srgbClr val="66ccff"/>
                </a:solidFill>
                <a:latin typeface="Tahoma"/>
              </a:rPr>
              <a:t>Jeff Dav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5105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y lawyer, Attorney General, Governor, Senato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whatever to get in public off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rmer/poor man sympat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ccff"/>
                </a:solidFill>
                <a:latin typeface="Tahoma"/>
              </a:rPr>
              <a:t>Anti-trust la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stated no Trust could do business in Arkan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e to the new Primary System, Davis became Governor in 19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33829" b="0"/>
          <a:stretch/>
        </p:blipFill>
        <p:spPr>
          <a:xfrm>
            <a:off x="5938920" y="1828800"/>
            <a:ext cx="3205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ccff"/>
                </a:solidFill>
                <a:latin typeface="Tahoma"/>
              </a:rPr>
              <a:t>Jeff Davis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Cont.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served three terms as Governor (1901-190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able to work with General Assemb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cist—worked for poor white men, did nothing for African Americans or wo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ibutio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prove State Prison system (African America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liked “</a:t>
            </a:r>
            <a:r>
              <a:rPr b="0" lang="en-US" sz="2000" spc="-1" strike="noStrike">
                <a:solidFill>
                  <a:srgbClr val="66ccff"/>
                </a:solidFill>
                <a:latin typeface="Tahoma"/>
              </a:rPr>
              <a:t>convict-lease syste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form schools for child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came a U.S. Senator in 19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t successfu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ed away in 19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gressive Governo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2799000" cy="3733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8120" y="1828800"/>
            <a:ext cx="2936880" cy="3733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172200" y="1828800"/>
            <a:ext cx="2743200" cy="3733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5638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eorge W. Donagh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56386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oseph T. Robin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5638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rles Br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duc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kansas was one                                         of lowest rank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than 50% of                                  school age children                              actually went to                                        sch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ool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ly-September                                              (harvest in Fall/Win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 was most impor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 pay-$34.46/mon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room school ho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gregated scho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41148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ducational Refor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dren required to attend school if between 7-15 years of 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ndard textbooks for all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mber of schools doubled between 1909-191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Technical schools were creat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ssellville, Jonesboro, Magnolia, Monticell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</a:t>
            </a:r>
            <a:r>
              <a:rPr b="0" lang="en-US" sz="2800" spc="-1" strike="noStrike">
                <a:solidFill>
                  <a:srgbClr val="66ccff"/>
                </a:solidFill>
                <a:latin typeface="Tahoma"/>
              </a:rPr>
              <a:t>Normal Schoo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pened in Conway for 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people unable to read/write dropped from 20% to 9.4% in 20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991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ransportation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rove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85840" y="175212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velopment of c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903, only 50 cars in Arkans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 1913, 4,800 cars in Arkans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d to better roads (grave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1913, the </a:t>
            </a:r>
            <a:r>
              <a:rPr b="0" i="1" lang="en-US" sz="2800" spc="-1" strike="noStrike">
                <a:solidFill>
                  <a:srgbClr val="66ccff"/>
                </a:solidFill>
                <a:latin typeface="Tahoma"/>
              </a:rPr>
              <a:t>State Department of Lands, Highways, and Improveme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as beg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ccff"/>
                </a:solidFill>
                <a:latin typeface="Tahoma"/>
              </a:rPr>
              <a:t>Federal Road Act of 19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.S. required to pay ½ of road constr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 1921, 7,000 miles of roads were ad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28600" y="4343400"/>
            <a:ext cx="3429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18:46Z</dcterms:created>
  <dc:creator>BSD</dc:creator>
  <dc:description/>
  <dc:language>en-US</dc:language>
  <cp:lastModifiedBy>BSD</cp:lastModifiedBy>
  <dcterms:modified xsi:type="dcterms:W3CDTF">2008-04-02T13:01:32Z</dcterms:modified>
  <cp:revision>6</cp:revision>
  <dc:subject/>
  <dc:title> The Progressive Era</dc:title>
</cp:coreProperties>
</file>